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B50-FBB4-4C05-9DC8-D6D2C814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716-45E6-4417-96C3-142246F8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864-C836-4B2B-9255-F65162D9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004-725D-4F8D-9797-EA170105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3E3F-BFFF-407F-A5E0-D055111F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9D71-2D65-49A3-BDEC-4EE8A18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80D-8E51-4E0E-B35D-AFDDF88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B429-08BB-482B-B86D-787A5843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871-13FF-4C85-9609-DCA2176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609-8C82-4672-B9B9-0B50E957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780-C2ED-4B49-9899-A1353C87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565-6BA7-45AC-9DC8-56B1A780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7240-9D69-4ACF-B565-86816F6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9FC-D2FF-4DED-ABB6-CDC22BA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6FC-D668-45D2-9E26-0C4B653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4F32-FC9C-406B-92B5-82DA24C5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FE5-6CFF-4080-9009-31754A87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006-197D-43D7-9679-C0BF20C6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87D-8384-4334-8F93-3DB59CE4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C84-0916-4016-9F8C-209F5D3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9C7-888D-4D8B-9DC4-A97F72A6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8F2-935F-4656-922F-F4C2378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3C4-AA05-43DD-A1C7-6BEF5B4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4EF-5708-4C6D-87CA-313ECC3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204-60CF-40CE-8208-87DFE3C5F2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AB14-0427-4371-9F44-B16967180D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ueing Components in Wide Area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ner Van Be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ial Memb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ick &amp; Dirty (in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rthermore: The Return Conti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definitely ‘more coo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turn continuation can be called directly from within a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turn continuation can be send a message to as a form of exception hand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other typical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Q &amp; 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exampl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-- calling the return continu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PicoFunction(t):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(is_void(t), return(0), false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(is_text(t), return(1), false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(is_number(t), return(void),false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other typical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Q &amp; 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exampl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-- sending  messages to the retur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able():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(“sorry…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PicoFunction(t):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(not(is_table(t)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.Notatable(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(somePicoFunction(30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: sorry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ill Further Mo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turn contination al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mplementation of the Arrow-operator: a way to happiness in distributed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Arrow Op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he return of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.calculate(50)-&gt;dis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a redefinition of the Standard Control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implemented in the next release of Cborg called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rg on Cub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ueing Components Toget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work in Distributed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tub – compilers (non dynam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ing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Static Linkage between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ueing Components Toget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 in distributed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id Defined Protocol between components (contrary to O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ata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sely coupl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ueing Components Toget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distributed applic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hard, because we have to implement the protocol ourse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ifficult, because it’s almost always asy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othersome, because we have to take errors into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you tired, because you have to implement a new MOP each time you communicate with remot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the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problem lies in the language constructs which are offer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only aim at synchronized commun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enforce a certain calling methodology upon the program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-With-Current-Conti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expl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ly Integrated into current day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turn Conti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s things eas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xplain: The return continuation represents what will happen when your function retur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typical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Q &amp; D.irty (In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example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x: v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Async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Ctx:=retur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d}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display(CalculateAsync(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(“test”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voi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typical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Q &amp; D.irty (In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example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x(10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: 100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x(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: 5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21:17:40Z</dcterms:created>
  <dc:creator>Werner Van Belle</dc:creator>
  <dc:description/>
  <dc:language>en-US</dc:language>
  <cp:lastModifiedBy>Werner Van Belle</cp:lastModifiedBy>
  <dcterms:modified xsi:type="dcterms:W3CDTF">2000-11-26T22:58:26Z</dcterms:modified>
  <cp:revision>2</cp:revision>
  <dc:subject/>
  <dc:title>Glueing Components in Wide Area Networks</dc:title>
</cp:coreProperties>
</file>